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11.gif" ContentType="image/gif"/>
  <Override PartName="/ppt/media/image8.png" ContentType="image/png"/>
  <Override PartName="/ppt/media/image5.gif" ContentType="image/gif"/>
  <Override PartName="/ppt/media/image14.jpeg" ContentType="image/jpeg"/>
  <Override PartName="/ppt/media/image7.jpeg" ContentType="image/jpeg"/>
  <Override PartName="/ppt/media/image15.gif" ContentType="image/gif"/>
  <Override PartName="/ppt/media/image18.png" ContentType="image/png"/>
  <Override PartName="/ppt/media/image20.png" ContentType="image/png"/>
  <Override PartName="/ppt/media/image12.png" ContentType="image/png"/>
  <Override PartName="/ppt/media/image23.png" ContentType="image/png"/>
  <Override PartName="/ppt/media/image22.png" ContentType="image/png"/>
  <Override PartName="/ppt/media/image4.wmf" ContentType="image/x-wmf"/>
  <Override PartName="/ppt/media/image10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.gif" ContentType="image/gif"/>
  <Override PartName="/ppt/media/image24.gif" ContentType="image/gif"/>
  <Override PartName="/ppt/media/image2.png" ContentType="image/png"/>
  <Override PartName="/ppt/media/image9.jpeg" ContentType="image/jpeg"/>
  <Override PartName="/ppt/media/image3.png" ContentType="image/pn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90545-4C03-4D15-9BE4-0BEB0F3C1B2C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esentation to revise/introduce simple directions in French KS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u est….? Tournez a droite/a gauche  Allez tout dro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licit – allez tout droit (click to move ghost): tournez a gauche (click to reach pumpk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sk class to form questions for the skeleton (Ou est le fantome?  Ou est la poste?  Ou est le chat noir?  Ou est l’ église?  etc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 annotate tool / IWB pen to draw a route for the skeleton following the class instru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Swap and you give the instructions while a child draws the route. Can they guess what the skeleton is looking for (ie where you are taking hi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ncourage class to repeat and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ncourage class to repeat and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ncourage class to repeat and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en get class to stand and play ‘Jacques a dit’ (simon says) with tournez a gauche/ a droite/ allez tout dro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e Halloween vocab. Repeat loud, soft, silly voice, scary voice, different voice for each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en point rapidly to each and class tell you what i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licit: allez tout droit (click and ghost moves): tournez a droite (click to make ghost move again): then allez tout droit (final c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final one could also be tournez a gauche depending on if you think your class can cope with finding their way around the map that wa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licit: allez tout droit (click ghost moves): tournez a gauche (click to move ghost): allez tout droit (move ghost): tournez a droite (last c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licit allez tout droit (click to move ghost): tournez a gauche (click): allez tout droit (click): tournez a gauche (last click to get to c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licit allez tout droit (click to move ghost): tournez a gauche (click) allez tout droit (click) tournez a gauche (last click to reach wit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7106-C34C-4FD9-8310-1E25C0C3D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5CA4-E41B-47AE-A63F-3679556F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49C7-F847-4EF2-B05B-79FD8FFAC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73C7-5F56-442C-8CE7-375D07DF8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215F-29D0-4611-9B36-B4C8F814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DD52-2C40-4831-A8F6-0E06E99AB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8F2F-0BCC-4C5C-818F-799C07159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FAAC-8EBC-4740-95A7-CDA5CC8BC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B377-22FB-4D9E-A8BB-44369E3D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344A-71CA-4F65-9076-E3FD770C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02DE-A945-4F2A-8021-4338D319F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A90F-2B27-4013-A1E7-A4F21E5C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8FA9B-8F49-4912-A460-689D6D7C0DC7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4.jpeg"/><Relationship Id="rId3" Type="http://schemas.openxmlformats.org/officeDocument/2006/relationships/image" Target="../media/image12.png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png"/><Relationship Id="rId3" Type="http://schemas.openxmlformats.org/officeDocument/2006/relationships/image" Target="../media/image1.gif"/><Relationship Id="rId4" Type="http://schemas.openxmlformats.org/officeDocument/2006/relationships/image" Target="../media/image15.gif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1.png"/><Relationship Id="rId13" Type="http://schemas.openxmlformats.org/officeDocument/2006/relationships/image" Target="../media/image23.png"/><Relationship Id="rId14" Type="http://schemas.openxmlformats.org/officeDocument/2006/relationships/image" Target="../media/image24.gi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1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2.png"/><Relationship Id="rId3" Type="http://schemas.openxmlformats.org/officeDocument/2006/relationships/image" Target="../media/image13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Hallow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14972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00"/>
                </a:solidFill>
                <a:latin typeface="Arial"/>
              </a:rPr>
              <a:t>(O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  <a:ea typeface="Arial"/>
              </a:rPr>
              <a:t>ù est…..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796000" y="47628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651800" y="4869000"/>
            <a:ext cx="1492200" cy="1989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9220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763640" y="5526000"/>
            <a:ext cx="1881360" cy="1332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2637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692360" y="306864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51280" y="263700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38036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00720" y="5013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95640" y="5013360"/>
            <a:ext cx="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118728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450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692360" y="450864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5013360"/>
            <a:ext cx="39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4500720" y="5013360"/>
            <a:ext cx="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06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69236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738036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7956720" y="-36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956720" y="3068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956720" y="2637000"/>
            <a:ext cx="1187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956720" y="306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7672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85128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50920" y="260280"/>
            <a:ext cx="4105080" cy="581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66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  <a:ea typeface="Arial"/>
              </a:rPr>
              <a:t>ù</a:t>
            </a:r>
            <a:r>
              <a:rPr b="1" lang="fr-FR" sz="3200" spc="-1" strike="noStrike">
                <a:solidFill>
                  <a:srgbClr val="ff6600"/>
                </a:solidFill>
                <a:latin typeface="Arial"/>
              </a:rPr>
              <a:t> est la citrouil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5508720" y="3429000"/>
            <a:ext cx="1125360" cy="10969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6588000" y="189000"/>
            <a:ext cx="71928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82 -0.04185 L 0.07882 0.33572 E">
                                      <p:cBhvr>
                                        <p:cTn id="128" dur="5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82 0.33572 L -0.50382 0.33572 E">
                                      <p:cBhvr>
                                        <p:cTn id="132" dur="5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050920" y="5300640"/>
            <a:ext cx="1881360" cy="1332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0" y="2637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92360" y="306864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51280" y="263700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38036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00720" y="5013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995640" y="5013360"/>
            <a:ext cx="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118728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450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92360" y="450864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5013360"/>
            <a:ext cx="39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500720" y="5013360"/>
            <a:ext cx="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06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69236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38036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7956720" y="-36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956720" y="3068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956720" y="2637000"/>
            <a:ext cx="1187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956720" y="306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7672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5128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0920" y="189000"/>
            <a:ext cx="32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66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  <a:ea typeface="Arial"/>
              </a:rPr>
              <a:t>ù</a:t>
            </a:r>
            <a:r>
              <a:rPr b="1" lang="fr-FR" sz="3200" spc="-1" strike="noStrike">
                <a:solidFill>
                  <a:srgbClr val="ff6600"/>
                </a:solidFill>
                <a:latin typeface="Arial"/>
              </a:rPr>
              <a:t> est ……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5508720" y="3429000"/>
            <a:ext cx="1125360" cy="10969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1908000" y="1484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0" y="3429000"/>
            <a:ext cx="1042920" cy="104292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5"/>
          <a:stretch/>
        </p:blipFill>
        <p:spPr>
          <a:xfrm>
            <a:off x="4140360" y="907920"/>
            <a:ext cx="1385640" cy="17067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6"/>
          <a:stretch/>
        </p:blipFill>
        <p:spPr>
          <a:xfrm>
            <a:off x="0" y="765000"/>
            <a:ext cx="1760400" cy="180828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2050920" y="3645000"/>
            <a:ext cx="939960" cy="8175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8"/>
          <a:stretch/>
        </p:blipFill>
        <p:spPr>
          <a:xfrm>
            <a:off x="4643280" y="5560920"/>
            <a:ext cx="1729080" cy="12970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9"/>
          <a:stretch/>
        </p:blipFill>
        <p:spPr>
          <a:xfrm>
            <a:off x="179280" y="4869000"/>
            <a:ext cx="1295640" cy="106668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0"/>
          <a:stretch/>
        </p:blipFill>
        <p:spPr>
          <a:xfrm>
            <a:off x="6156360" y="1773360"/>
            <a:ext cx="876240" cy="91440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1"/>
          <a:stretch/>
        </p:blipFill>
        <p:spPr>
          <a:xfrm>
            <a:off x="6804000" y="5013360"/>
            <a:ext cx="1368360" cy="1058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2"/>
          <a:stretch/>
        </p:blipFill>
        <p:spPr>
          <a:xfrm>
            <a:off x="7956720" y="3429000"/>
            <a:ext cx="876240" cy="9144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13"/>
          <a:stretch/>
        </p:blipFill>
        <p:spPr>
          <a:xfrm>
            <a:off x="3492360" y="3284640"/>
            <a:ext cx="1295640" cy="11570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14"/>
          <a:stretch/>
        </p:blipFill>
        <p:spPr>
          <a:xfrm>
            <a:off x="7740720" y="260280"/>
            <a:ext cx="8874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ournez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à gau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042920" y="2155680"/>
            <a:ext cx="6624720" cy="3205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 rot="10300800">
            <a:off x="3419280" y="5084640"/>
            <a:ext cx="402732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5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ournez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à dro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484360" y="1790640"/>
            <a:ext cx="4392720" cy="4362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84360" y="5516640"/>
            <a:ext cx="38098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lez tout dro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987640" y="1700280"/>
            <a:ext cx="3205080" cy="4491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 rot="16200000">
            <a:off x="792000" y="3679200"/>
            <a:ext cx="38098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animClr clrSpc="rgb">
                                      <p:cBhvr>
                                        <p:cTn id="3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31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867280" y="692280"/>
            <a:ext cx="1614600" cy="17557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874880" y="620640"/>
            <a:ext cx="1224000" cy="2185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258920" y="3789360"/>
            <a:ext cx="2433600" cy="2187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5651640" y="4005360"/>
            <a:ext cx="2160360" cy="19033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403640" y="2781360"/>
            <a:ext cx="205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la sorciè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05080" y="6021360"/>
            <a:ext cx="209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la citrou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81080" y="6021360"/>
            <a:ext cx="21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le chat no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653080" y="2565360"/>
            <a:ext cx="207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le fantô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2637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92360" y="306864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51280" y="263700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8036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00720" y="5013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95640" y="5013360"/>
            <a:ext cx="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118728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450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92360" y="450864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013360"/>
            <a:ext cx="39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4500720" y="5013360"/>
            <a:ext cx="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306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69236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738036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7956720" y="-36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956720" y="3068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956720" y="2637000"/>
            <a:ext cx="1187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06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5128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260280"/>
            <a:ext cx="4105080" cy="581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66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  <a:ea typeface="Arial"/>
              </a:rPr>
              <a:t>ù</a:t>
            </a:r>
            <a:r>
              <a:rPr b="1" lang="fr-FR" sz="3200" spc="-1" strike="noStrike">
                <a:solidFill>
                  <a:srgbClr val="ff6600"/>
                </a:solidFill>
                <a:latin typeface="Arial"/>
              </a:rPr>
              <a:t> est le chat no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8028000" y="1197000"/>
            <a:ext cx="884160" cy="13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276720" y="580536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503 0.03144 L 0.05503 -0.20971 E">
                                      <p:cBhvr>
                                        <p:cTn id="60" dur="5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503 -0.20971 L 0.42517 -0.20971 E">
                                      <p:cBhvr>
                                        <p:cTn id="64" dur="5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2517 -0.20971 L 0.42517 -0.57688 E">
                                      <p:cBhvr>
                                        <p:cTn id="68" dur="5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2637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692360" y="306864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851280" y="263700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38036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00720" y="5013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995640" y="5013360"/>
            <a:ext cx="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18728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50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92360" y="450864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013360"/>
            <a:ext cx="39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500720" y="5013360"/>
            <a:ext cx="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06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169236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738036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7956720" y="-36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956720" y="3068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956720" y="2637000"/>
            <a:ext cx="1187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56720" y="306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5128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260280"/>
            <a:ext cx="4105080" cy="581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66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  <a:ea typeface="Arial"/>
              </a:rPr>
              <a:t>ù</a:t>
            </a:r>
            <a:r>
              <a:rPr b="1" lang="fr-FR" sz="3200" spc="-1" strike="noStrike">
                <a:solidFill>
                  <a:srgbClr val="ff6600"/>
                </a:solidFill>
                <a:latin typeface="Arial"/>
              </a:rPr>
              <a:t> est le chat no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124000" y="1484280"/>
            <a:ext cx="1125720" cy="1096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419640" y="5950080"/>
            <a:ext cx="71892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539 0.02891 L 0.05539 -0.23075 E">
                                      <p:cBhvr>
                                        <p:cTn id="74" dur="5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539 -0.23075 L -0.25972 -0.23075 E">
                                      <p:cBhvr>
                                        <p:cTn id="78" dur="5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972 -0.23075 L -0.25972 -0.51375 E">
                                      <p:cBhvr>
                                        <p:cTn id="82" dur="5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972 -0.51375 L -0.10225 -0.51375 E">
                                      <p:cBhvr>
                                        <p:cTn id="86" dur="5000" fill="hold"/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2637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692360" y="306864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851280" y="263700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38036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00720" y="5013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995640" y="5013360"/>
            <a:ext cx="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118728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50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692360" y="450864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5013360"/>
            <a:ext cx="39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4500720" y="5013360"/>
            <a:ext cx="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06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69236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738036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56720" y="-36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956720" y="3068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956720" y="2637000"/>
            <a:ext cx="1187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956720" y="306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85128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260280"/>
            <a:ext cx="4105080" cy="581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66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  <a:ea typeface="Arial"/>
              </a:rPr>
              <a:t>ù</a:t>
            </a:r>
            <a:r>
              <a:rPr b="1" lang="fr-FR" sz="3200" spc="-1" strike="noStrike">
                <a:solidFill>
                  <a:srgbClr val="ff6600"/>
                </a:solidFill>
                <a:latin typeface="Arial"/>
              </a:rPr>
              <a:t> est le chat no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3357720"/>
            <a:ext cx="1125360" cy="1096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588000" y="189000"/>
            <a:ext cx="71928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82 -0.04185 L 0.07882 0.32532 E">
                                      <p:cBhvr>
                                        <p:cTn id="92" dur="5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82 0.32532 L -0.59045 0.32532 E">
                                      <p:cBhvr>
                                        <p:cTn id="96" dur="5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9045 0.32532 L -0.59826 0.60832 E">
                                      <p:cBhvr>
                                        <p:cTn id="100" dur="5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9826 0.60832 L -0.68489 0.60832 E">
                                      <p:cBhvr>
                                        <p:cTn id="104" dur="5000" fill="hold"/>
                                        <p:tgtEl>
                                          <p:spTgt spid="1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763640" y="5526000"/>
            <a:ext cx="1881360" cy="1332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0" y="2637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92360" y="306864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51280" y="263700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500720" y="5013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995640" y="5013360"/>
            <a:ext cx="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18728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450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92360" y="450864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5013360"/>
            <a:ext cx="39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4500720" y="5013360"/>
            <a:ext cx="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306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69236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738036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956720" y="-36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956720" y="3068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956720" y="2637000"/>
            <a:ext cx="1187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956720" y="306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7672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85128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260280"/>
            <a:ext cx="4105080" cy="581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66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  <a:ea typeface="Arial"/>
              </a:rPr>
              <a:t>ù</a:t>
            </a:r>
            <a:r>
              <a:rPr b="1" lang="fr-FR" sz="3200" spc="-1" strike="noStrike">
                <a:solidFill>
                  <a:srgbClr val="ff6600"/>
                </a:solidFill>
                <a:latin typeface="Arial"/>
              </a:rPr>
              <a:t> est la sorciè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5508720" y="3429000"/>
            <a:ext cx="1125360" cy="10969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719280" cy="71892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1908000" y="14842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82 -0.04185 L 0.07882 0.60832 E">
                                      <p:cBhvr>
                                        <p:cTn id="110" dur="5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82 0.60832 L -0.28333 0.60832 E">
                                      <p:cBhvr>
                                        <p:cTn id="114" dur="5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333 0.60832 L -0.28333 0.81826 E">
                                      <p:cBhvr>
                                        <p:cTn id="118" dur="5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333 0.81826 L -0.36996 0.81826 E">
                                      <p:cBhvr>
                                        <p:cTn id="122" dur="5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0:44:57Z</dcterms:created>
  <dc:creator>Jo Rhys-Jones</dc:creator>
  <dc:description/>
  <dc:language>en-US</dc:language>
  <cp:lastModifiedBy>Jo Rhys-Jones</cp:lastModifiedBy>
  <dcterms:modified xsi:type="dcterms:W3CDTF">2007-10-19T16:22:30Z</dcterms:modified>
  <cp:revision>12</cp:revision>
  <dc:subject/>
  <dc:title>L’Halloween</dc:title>
</cp:coreProperties>
</file>